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0CB-FCC4-44EB-90B0-19A6B5BD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535-5A64-4DC3-BFFC-A188D90D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107-ACA4-49E2-85E0-2DDB325E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2D4-FAF1-40BE-AA3B-F3B43BBB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D22D-342F-476B-8B27-EE67FA3F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269-867A-484F-9EB6-FA3A1B2B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042-CA10-4552-BEB9-2D8CBB14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4EC-B76C-47BB-B09C-64037782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F13-9FCB-47F0-8BC6-5EA1E709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258-CF89-4157-BF27-4BD0EBCD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2621-F60B-4554-848E-4BE6240B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7F5-3329-44FC-A1F4-55F292B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5040-F945-4028-AD7C-ADB8F0958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5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g George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38280" y="1066680"/>
          <a:ext cx="3911760" cy="563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066680"/>
                    <a:ext cx="391176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was the British General who surrendered at Yorkt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championed the cause of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was commander of the Continental Ar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 author of the Declaration of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spoken member of the House of Burg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pired colonial patriotism with “Give me liberty or give me Death” spe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ber of Continental Cong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ed frame the Declaration of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urna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hor of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inced people they should live free from Eng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ormer sl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ote poems and plays supporting American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rd Cornwa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34000" y="1219320"/>
          <a:ext cx="3902040" cy="53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4000" y="1219320"/>
                    <a:ext cx="39020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 Ad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59160" y="609480"/>
          <a:ext cx="428796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9160" y="609480"/>
                    <a:ext cx="42879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375080" y="380880"/>
          <a:ext cx="3913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5080" y="380880"/>
                    <a:ext cx="3913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218120" y="228600"/>
          <a:ext cx="421164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8120" y="228600"/>
                    <a:ext cx="421164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rick Hen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352680" y="457200"/>
          <a:ext cx="54277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57200"/>
                    <a:ext cx="5427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jamin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019400" y="533520"/>
          <a:ext cx="4604040" cy="57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9400" y="533520"/>
                    <a:ext cx="46040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mas Pa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700520" y="228600"/>
          <a:ext cx="34639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228600"/>
                    <a:ext cx="34639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was the British King during the Revolutionary 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19:42Z</dcterms:created>
  <dc:creator>NNPS</dc:creator>
  <dc:description/>
  <dc:language>en-US</dc:language>
  <cp:lastModifiedBy>NNPS</cp:lastModifiedBy>
  <dcterms:modified xsi:type="dcterms:W3CDTF">2008-01-15T15:04:56Z</dcterms:modified>
  <cp:revision>2</cp:revision>
  <dc:subject/>
  <dc:title>Slide 1</dc:title>
</cp:coreProperties>
</file>